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AF8-917D-4F03-819B-001E38E3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ECD-CE61-4141-874C-45D7304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1FF-6137-4C96-8FD5-FFC9DBD7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939-23DC-4901-9D5E-B26CA8C8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57A-709E-4148-B804-AB25FE7E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536-57F1-403D-94D3-30C2DB3F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887-AF3C-4A1B-B746-7834E770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993-6B35-498D-AAFC-8A875E6E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2C4-7FD4-468F-B9CE-4EF77AB7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0EA-0EDA-4363-B56F-3CBA5CA9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340-A61D-4BD3-B8EE-C4D22A8F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C38-E2E0-439C-ADF0-4BE1CA02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78C6-EB2B-438D-86FB-A410E9A0E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609480" y="2041560"/>
            <a:ext cx="80042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Things First: “I”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nchanese\AppData\Local\Microsoft\Windows\Temporary Internet Files\Content.IE5\9MUQ803S\MC900363172[1].wmf"/>
          <p:cNvPicPr/>
          <p:nvPr/>
        </p:nvPicPr>
        <p:blipFill>
          <a:blip r:embed="rId1"/>
          <a:stretch/>
        </p:blipFill>
        <p:spPr>
          <a:xfrm>
            <a:off x="677880" y="1317600"/>
            <a:ext cx="3294000" cy="1730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609480" y="3940200"/>
            <a:ext cx="312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should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need t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have t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4" descr=""/>
          <p:cNvPicPr/>
          <p:nvPr/>
        </p:nvPicPr>
        <p:blipFill>
          <a:blip r:embed="rId2"/>
          <a:stretch/>
        </p:blipFill>
        <p:spPr>
          <a:xfrm>
            <a:off x="3852720" y="2798640"/>
            <a:ext cx="1432080" cy="1455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nchanese\AppData\Local\Microsoft\Windows\Temporary Internet Files\Content.IE5\N3169SS1\MC900339964[1].wmf"/>
          <p:cNvPicPr/>
          <p:nvPr/>
        </p:nvPicPr>
        <p:blipFill>
          <a:blip r:embed="rId3"/>
          <a:stretch/>
        </p:blipFill>
        <p:spPr>
          <a:xfrm>
            <a:off x="6172200" y="1262160"/>
            <a:ext cx="2057400" cy="2166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5905440" y="3940200"/>
            <a:ext cx="259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would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could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migh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ly Conferences: Bless Confer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nchanese\AppData\Local\Microsoft\Windows\Temporary Internet Files\Content.IE5\V8YN1CYM\MP900430616[1].jpg"/>
          <p:cNvPicPr/>
          <p:nvPr/>
        </p:nvPicPr>
        <p:blipFill>
          <a:blip r:embed="rId1"/>
          <a:stretch/>
        </p:blipFill>
        <p:spPr>
          <a:xfrm>
            <a:off x="5608800" y="1600200"/>
            <a:ext cx="353520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" y="1676520"/>
            <a:ext cx="5334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ess Conferen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sitive Comment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you 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tood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str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what’s 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for what’s not menti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Conferences: Add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nchanese\AppData\Local\Microsoft\Windows\Temporary Internet Files\Content.IE5\N3169SS1\MC900356087[1].wmf"/>
          <p:cNvPicPr/>
          <p:nvPr/>
        </p:nvPicPr>
        <p:blipFill>
          <a:blip r:embed="rId1"/>
          <a:stretch/>
        </p:blipFill>
        <p:spPr>
          <a:xfrm>
            <a:off x="2133720" y="4435560"/>
            <a:ext cx="2971800" cy="2422440"/>
          </a:xfrm>
          <a:prstGeom prst="rect">
            <a:avLst/>
          </a:prstGeom>
          <a:ln w="0">
            <a:noFill/>
          </a:ln>
        </p:spPr>
      </p:pic>
      <p:sp>
        <p:nvSpPr>
          <p:cNvPr id="53" name="PubRRectCallout"/>
          <p:cNvSpPr/>
          <p:nvPr/>
        </p:nvSpPr>
        <p:spPr>
          <a:xfrm flipH="1">
            <a:off x="608760" y="1523880"/>
            <a:ext cx="7620120" cy="2895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ddress Conference:  Writer-Directed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ly on areas designated by aut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any feedback for those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Conferences: Sh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nchanese\AppData\Local\Microsoft\Windows\Temporary Internet Files\Content.IE5\9MUQ803S\MC900338028[1].wmf"/>
          <p:cNvPicPr/>
          <p:nvPr/>
        </p:nvPicPr>
        <p:blipFill>
          <a:blip r:embed="rId1"/>
          <a:stretch/>
        </p:blipFill>
        <p:spPr>
          <a:xfrm>
            <a:off x="152280" y="1828800"/>
            <a:ext cx="3200400" cy="2894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352680" y="4149720"/>
            <a:ext cx="5791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hred Conference: Anything G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uthor is at mercy of reader. Reader gives all appropriate feedba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on’t worry – this is your almost-final draft. You will be o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4:07:58Z</dcterms:created>
  <dc:creator>Chanese, Nicholas</dc:creator>
  <dc:description/>
  <dc:language>en-US</dc:language>
  <cp:lastModifiedBy>Chanese, Nicholas</cp:lastModifiedBy>
  <dcterms:modified xsi:type="dcterms:W3CDTF">2011-06-02T13:55:34Z</dcterms:modified>
  <cp:revision>4</cp:revision>
  <dc:subject/>
  <dc:title>PowerPoint Presentation</dc:title>
</cp:coreProperties>
</file>